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013-5733-4DE4-B0A7-84954967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8F8-23E5-433F-92FB-FC0EFF05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DBF-9BE1-454D-9DAC-0C4B3FE0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AA1-8B51-4529-BCE8-3BD3C648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431-535A-4101-87F7-E63E7B93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605-DB55-4281-B7BF-DF924688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76B-854A-4B02-8326-36A44613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389-C875-406B-AF7F-995D69F8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189-C717-4D35-A1CE-77F601E0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44A-2752-4EEF-8E8F-A42AB9A4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E1F-5CAB-4D5B-87A3-B057AAF7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667-26DF-46CF-A018-122D5D9E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063D-2BE9-486A-9534-7F476DC05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929960"/>
            <a:ext cx="844884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6a9121"/>
                </a:solidFill>
                <a:uFillTx/>
                <a:latin typeface="Trebuchet MS"/>
              </a:rPr>
              <a:t>Cooperative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1280" y="2666520"/>
            <a:ext cx="920124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c113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1130"/>
                </a:solidFill>
                <a:latin typeface="Trebuchet MS"/>
              </a:rPr>
              <a:t>Student interaction enhances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c113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1130"/>
                </a:solidFill>
                <a:latin typeface="Trebuchet MS"/>
              </a:rPr>
              <a:t>Jigsaws encourge students to become "experts" of the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c113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1130"/>
                </a:solidFill>
                <a:latin typeface="Trebuchet MS"/>
              </a:rPr>
              <a:t>Participation and practice enhances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c113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1130"/>
                </a:solidFill>
                <a:latin typeface="Trebuchet MS"/>
              </a:rPr>
              <a:t>Changes classroom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7400" y="509760"/>
            <a:ext cx="1835280" cy="1285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918040" y="91440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cc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868686"/>
                  </a:outerShdw>
                </a:effectLst>
                <a:latin typeface="Alor"/>
              </a:rPr>
              <a:t>Jigsaw</a:t>
            </a:r>
            <a:endParaRPr b="0" lang="en-US" sz="2400" spc="1" strike="noStrike">
              <a:ln w="28440">
                <a:solidFill>
                  <a:srgbClr val="00cc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868686"/>
                </a:outerShdw>
              </a:effectLst>
              <a:latin typeface="Alor"/>
              <a:ea typeface="Alo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workstation</cp:lastModifiedBy>
  <dcterms:modified xsi:type="dcterms:W3CDTF">2010-08-03T14:53:49Z</dcterms:modified>
  <cp:revision>3</cp:revision>
  <dc:subject/>
  <dc:title>PowerPoint Presentation</dc:title>
</cp:coreProperties>
</file>